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CE70-4D86-4AFD-84F8-9480316F5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25FB-FF68-4B51-9D5E-D7AA2D35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9DF0-6E3E-4544-9DDB-1D2D65CC5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345C-C4A3-4140-AEDA-04965CD09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C77D-8BD2-4406-BD1A-FDE2439C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FB8D-0D51-456C-AA8B-57F4AA09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7F66-4AA8-4C77-96A0-049C3075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4866-E4A2-4ED6-8E53-C4534BB5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089B-6092-4A5D-AB1F-DDE277D4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1959-0F85-4A43-9AC7-F371C2BA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01DC-C8D5-4357-93E0-BB43C916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0192-B876-49B6-B250-03DA596A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5E73-1DE0-4FAE-BA23-E1A695EDB5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1692360" y="1916280"/>
            <a:ext cx="62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МБОУ «Старокурмашевская ООШ» Актанышского муниципалного района 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C:\Users\адиля\Desktop\конф стенд\конф 14\fon-mat.jpg"/>
          <p:cNvPicPr/>
          <p:nvPr/>
        </p:nvPicPr>
        <p:blipFill>
          <a:blip r:embed="rId1"/>
          <a:stretch/>
        </p:blipFill>
        <p:spPr>
          <a:xfrm>
            <a:off x="-3240" y="1440"/>
            <a:ext cx="9147240" cy="68565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395280" y="1484280"/>
            <a:ext cx="2230560" cy="50328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дминистр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шк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3203640" y="3068640"/>
            <a:ext cx="2736720" cy="64764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в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Шк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3203640" y="1052640"/>
            <a:ext cx="2448000" cy="72072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едсо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3419640" y="4005360"/>
            <a:ext cx="2232000" cy="57600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ов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таршекласс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6084720" y="3933720"/>
            <a:ext cx="1295640" cy="57492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3"/>
          <p:cNvSpPr/>
          <p:nvPr/>
        </p:nvSpPr>
        <p:spPr>
          <a:xfrm>
            <a:off x="2484360" y="1773360"/>
            <a:ext cx="71928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4427640" y="2781360"/>
            <a:ext cx="0" cy="28728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5"/>
          <p:cNvSpPr/>
          <p:nvPr/>
        </p:nvSpPr>
        <p:spPr>
          <a:xfrm>
            <a:off x="1547640" y="1989000"/>
            <a:ext cx="1656000" cy="151128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6"/>
          <p:cNvSpPr/>
          <p:nvPr/>
        </p:nvSpPr>
        <p:spPr>
          <a:xfrm>
            <a:off x="5508720" y="4221000"/>
            <a:ext cx="576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7"/>
          <p:cNvSpPr/>
          <p:nvPr/>
        </p:nvSpPr>
        <p:spPr>
          <a:xfrm>
            <a:off x="4427640" y="3716280"/>
            <a:ext cx="0" cy="28908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8"/>
          <p:cNvSpPr/>
          <p:nvPr/>
        </p:nvSpPr>
        <p:spPr>
          <a:xfrm>
            <a:off x="4427640" y="1773360"/>
            <a:ext cx="0" cy="43164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9"/>
          <p:cNvSpPr/>
          <p:nvPr/>
        </p:nvSpPr>
        <p:spPr>
          <a:xfrm>
            <a:off x="5651640" y="1773360"/>
            <a:ext cx="649080" cy="144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0"/>
          <p:cNvSpPr/>
          <p:nvPr/>
        </p:nvSpPr>
        <p:spPr>
          <a:xfrm flipH="1">
            <a:off x="5940000" y="1989000"/>
            <a:ext cx="1079640" cy="158436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Rectangle 23" descr=""/>
          <p:cNvPicPr/>
          <p:nvPr/>
        </p:nvPicPr>
        <p:blipFill>
          <a:blip r:embed="rId2"/>
          <a:stretch/>
        </p:blipFill>
        <p:spPr>
          <a:xfrm>
            <a:off x="176040" y="-85680"/>
            <a:ext cx="8425080" cy="12812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7"/>
          <p:cNvSpPr/>
          <p:nvPr/>
        </p:nvSpPr>
        <p:spPr>
          <a:xfrm>
            <a:off x="3419640" y="2133720"/>
            <a:ext cx="2230200" cy="64764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одительск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бще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8"/>
          <p:cNvSpPr/>
          <p:nvPr/>
        </p:nvSpPr>
        <p:spPr>
          <a:xfrm>
            <a:off x="6300720" y="1484280"/>
            <a:ext cx="2230560" cy="50328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едагог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оллект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2987640" y="4149720"/>
            <a:ext cx="57636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1"/>
          <p:cNvSpPr/>
          <p:nvPr/>
        </p:nvSpPr>
        <p:spPr>
          <a:xfrm flipV="1">
            <a:off x="3348000" y="4581360"/>
            <a:ext cx="503280" cy="21600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2"/>
          <p:cNvSpPr/>
          <p:nvPr/>
        </p:nvSpPr>
        <p:spPr>
          <a:xfrm>
            <a:off x="5435640" y="4581360"/>
            <a:ext cx="504720" cy="28764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3"/>
          <p:cNvSpPr/>
          <p:nvPr/>
        </p:nvSpPr>
        <p:spPr>
          <a:xfrm>
            <a:off x="4643280" y="4365720"/>
            <a:ext cx="0" cy="64764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4"/>
          <p:cNvSpPr/>
          <p:nvPr/>
        </p:nvSpPr>
        <p:spPr>
          <a:xfrm>
            <a:off x="1116000" y="3789360"/>
            <a:ext cx="1871640" cy="71928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чениче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м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2411280" y="4653000"/>
            <a:ext cx="1224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6"/>
          <p:cNvSpPr/>
          <p:nvPr/>
        </p:nvSpPr>
        <p:spPr>
          <a:xfrm>
            <a:off x="1649520" y="4897440"/>
            <a:ext cx="1295280" cy="82404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омитет 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досуг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7"/>
          <p:cNvSpPr/>
          <p:nvPr/>
        </p:nvSpPr>
        <p:spPr>
          <a:xfrm>
            <a:off x="3490920" y="5030640"/>
            <a:ext cx="1873080" cy="71928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омитет 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туризму и спор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8"/>
          <p:cNvSpPr/>
          <p:nvPr/>
        </p:nvSpPr>
        <p:spPr>
          <a:xfrm>
            <a:off x="5867280" y="4869000"/>
            <a:ext cx="1944720" cy="86508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омитет 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рганизационны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дел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9"/>
          <p:cNvSpPr/>
          <p:nvPr/>
        </p:nvSpPr>
        <p:spPr>
          <a:xfrm>
            <a:off x="1835280" y="4508640"/>
            <a:ext cx="0" cy="180000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0"/>
          <p:cNvSpPr/>
          <p:nvPr/>
        </p:nvSpPr>
        <p:spPr>
          <a:xfrm>
            <a:off x="2916360" y="5445000"/>
            <a:ext cx="0" cy="93672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1"/>
          <p:cNvSpPr/>
          <p:nvPr/>
        </p:nvSpPr>
        <p:spPr>
          <a:xfrm>
            <a:off x="4643280" y="5734080"/>
            <a:ext cx="0" cy="71928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2"/>
          <p:cNvSpPr/>
          <p:nvPr/>
        </p:nvSpPr>
        <p:spPr>
          <a:xfrm>
            <a:off x="6732720" y="4508640"/>
            <a:ext cx="0" cy="36036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3"/>
          <p:cNvSpPr/>
          <p:nvPr/>
        </p:nvSpPr>
        <p:spPr>
          <a:xfrm>
            <a:off x="6732720" y="5734080"/>
            <a:ext cx="0" cy="57456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4"/>
          <p:cNvSpPr/>
          <p:nvPr/>
        </p:nvSpPr>
        <p:spPr>
          <a:xfrm>
            <a:off x="1187280" y="6308640"/>
            <a:ext cx="6985080" cy="40500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лассное ученическое самоу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3" descr="C:\Users\адиля\Desktop\конф стенд\конф 14\fon-mat.jpg"/>
          <p:cNvPicPr/>
          <p:nvPr/>
        </p:nvPicPr>
        <p:blipFill>
          <a:blip r:embed="rId1"/>
          <a:stretch/>
        </p:blipFill>
        <p:spPr>
          <a:xfrm>
            <a:off x="-3240" y="1440"/>
            <a:ext cx="9147240" cy="68565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87480" y="216000"/>
            <a:ext cx="64389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Цели деятельности школьного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самоу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0240" y="1343160"/>
            <a:ext cx="3816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щита и представление прав и интересов школьник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действие школьникам в решении образовательных, социальных вопросов, затрагивающих интересы школь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хранение и развитие демократических традиций школ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ичностное развитие учащихся в процессе взаимодейств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C:\Users\адиля\Pictures\101___09\IMG_0332.JPG"/>
          <p:cNvPicPr/>
          <p:nvPr/>
        </p:nvPicPr>
        <p:blipFill>
          <a:blip r:embed="rId2"/>
          <a:stretch/>
        </p:blipFill>
        <p:spPr>
          <a:xfrm>
            <a:off x="6456240" y="835200"/>
            <a:ext cx="2327400" cy="1742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C:\Users\адиля\Desktop\фотография\илдус\SDC13282.JPG"/>
          <p:cNvPicPr/>
          <p:nvPr/>
        </p:nvPicPr>
        <p:blipFill>
          <a:blip r:embed="rId3"/>
          <a:stretch/>
        </p:blipFill>
        <p:spPr>
          <a:xfrm>
            <a:off x="3760920" y="3432240"/>
            <a:ext cx="2158920" cy="1620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C:\Users\адиля\Desktop\фотография\мэктэп чаралар\133___02\IMG_6485.JPG"/>
          <p:cNvPicPr/>
          <p:nvPr/>
        </p:nvPicPr>
        <p:blipFill>
          <a:blip r:embed="rId4"/>
          <a:stretch/>
        </p:blipFill>
        <p:spPr>
          <a:xfrm>
            <a:off x="6066000" y="4632480"/>
            <a:ext cx="2676240" cy="1500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C:\Users\адиля\Desktop\фотография\мэктэп чаралар\134___03\IMG_6683.JPG"/>
          <p:cNvPicPr/>
          <p:nvPr/>
        </p:nvPicPr>
        <p:blipFill>
          <a:blip r:embed="rId5"/>
          <a:stretch/>
        </p:blipFill>
        <p:spPr>
          <a:xfrm>
            <a:off x="3938760" y="1670040"/>
            <a:ext cx="2717640" cy="1530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C:\Users\адиля\Desktop\фотография\мэктэп чаралар\сомбелэ\IMG_5575.JPG"/>
          <p:cNvPicPr/>
          <p:nvPr/>
        </p:nvPicPr>
        <p:blipFill>
          <a:blip r:embed="rId6"/>
          <a:stretch/>
        </p:blipFill>
        <p:spPr>
          <a:xfrm>
            <a:off x="6010200" y="2779560"/>
            <a:ext cx="2847960" cy="1603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C:\Users\адиля\Desktop\фотография\фото Ф\фото0079.jpg"/>
          <p:cNvPicPr/>
          <p:nvPr/>
        </p:nvPicPr>
        <p:blipFill>
          <a:blip r:embed="rId7"/>
          <a:stretch/>
        </p:blipFill>
        <p:spPr>
          <a:xfrm>
            <a:off x="3382920" y="5084640"/>
            <a:ext cx="2536920" cy="15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3" descr="C:\Users\адиля\Desktop\конф стенд\конф 14\fon-mat.jpg"/>
          <p:cNvPicPr/>
          <p:nvPr/>
        </p:nvPicPr>
        <p:blipFill>
          <a:blip r:embed="rId1"/>
          <a:stretch/>
        </p:blipFill>
        <p:spPr>
          <a:xfrm>
            <a:off x="-3240" y="1440"/>
            <a:ext cx="9147240" cy="685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1077840" y="1844640"/>
          <a:ext cx="6985080" cy="4732200"/>
        </p:xfrm>
        <a:graphic>
          <a:graphicData uri="http://schemas.openxmlformats.org/drawingml/2006/table">
            <a:tbl>
              <a:tblPr/>
              <a:tblGrid>
                <a:gridCol w="6985080"/>
              </a:tblGrid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Презид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инистр культу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инистр спор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инистр без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Пресс-секретар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инистр тру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524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инистр образ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Редакт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Во</a:t>
                      </a: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жатый 1,3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Вожатый 2,4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Вожатый 5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</a:tbl>
          </a:graphicData>
        </a:graphic>
      </p:graphicFrame>
      <p:pic>
        <p:nvPicPr>
          <p:cNvPr id="85" name="Прямоугольник 2" descr=""/>
          <p:cNvPicPr/>
          <p:nvPr/>
        </p:nvPicPr>
        <p:blipFill>
          <a:blip r:embed="rId2"/>
          <a:stretch/>
        </p:blipFill>
        <p:spPr>
          <a:xfrm>
            <a:off x="1457280" y="-60480"/>
            <a:ext cx="67294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3" descr="C:\Users\адиля\Desktop\конф стенд\конф 14\fon-mat.jpg"/>
          <p:cNvPicPr/>
          <p:nvPr/>
        </p:nvPicPr>
        <p:blipFill>
          <a:blip r:embed="rId1"/>
          <a:stretch/>
        </p:blipFill>
        <p:spPr>
          <a:xfrm>
            <a:off x="-3240" y="1440"/>
            <a:ext cx="9147240" cy="685656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3"/>
          <p:cNvSpPr/>
          <p:nvPr/>
        </p:nvSpPr>
        <p:spPr>
          <a:xfrm>
            <a:off x="1187280" y="1816200"/>
            <a:ext cx="65088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Школьное самоуправление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– это процесс конструктивного взаимодействия школьников и администрации школ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Школьное самоуправление – это участие школьников в управлении школ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Школьное самоуправление – это явление, объединяющее все школьные инициатив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Школьное самоуправление – это особая форма        инициативной самостоятельной общественной деятельности школьников, направленная на решение вопросов по организации обучения, досуга, а также развития социальной активности школьн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C:\Users\адиля\Desktop\фотография\мэктэп чаралар\134___03\IMG_6667.JPG"/>
          <p:cNvPicPr/>
          <p:nvPr/>
        </p:nvPicPr>
        <p:blipFill>
          <a:blip r:embed="rId2"/>
          <a:stretch/>
        </p:blipFill>
        <p:spPr>
          <a:xfrm>
            <a:off x="5870520" y="317520"/>
            <a:ext cx="2908440" cy="1639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C:\Users\адиля\Desktop\фотография\мэктэп чаралар\134___03\IMG_6668.JPG"/>
          <p:cNvPicPr/>
          <p:nvPr/>
        </p:nvPicPr>
        <p:blipFill>
          <a:blip r:embed="rId3"/>
          <a:stretch/>
        </p:blipFill>
        <p:spPr>
          <a:xfrm>
            <a:off x="6151680" y="4614840"/>
            <a:ext cx="2627280" cy="1474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C:\Users\адиля\Desktop\фотография\мэктэп чаралар\134___03\IMG_6671.JPG"/>
          <p:cNvPicPr/>
          <p:nvPr/>
        </p:nvPicPr>
        <p:blipFill>
          <a:blip r:embed="rId4"/>
          <a:stretch/>
        </p:blipFill>
        <p:spPr>
          <a:xfrm>
            <a:off x="165240" y="317520"/>
            <a:ext cx="2663640" cy="1498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C:\Users\адиля\Desktop\фотография\мэктэп чаралар\134___03\IMG_6675.JPG"/>
          <p:cNvPicPr/>
          <p:nvPr/>
        </p:nvPicPr>
        <p:blipFill>
          <a:blip r:embed="rId5"/>
          <a:stretch/>
        </p:blipFill>
        <p:spPr>
          <a:xfrm>
            <a:off x="2798640" y="189000"/>
            <a:ext cx="2936880" cy="1652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C:\Users\адиля\Desktop\фотография\мэктэп чаралар\134___03\IMG_6676.JPG"/>
          <p:cNvPicPr/>
          <p:nvPr/>
        </p:nvPicPr>
        <p:blipFill>
          <a:blip r:embed="rId6"/>
          <a:stretch/>
        </p:blipFill>
        <p:spPr>
          <a:xfrm>
            <a:off x="3114720" y="4809960"/>
            <a:ext cx="2652840" cy="1487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C:\Users\адиля\Desktop\фотография\07122013720.jpg"/>
          <p:cNvPicPr/>
          <p:nvPr/>
        </p:nvPicPr>
        <p:blipFill>
          <a:blip r:embed="rId7"/>
          <a:stretch/>
        </p:blipFill>
        <p:spPr>
          <a:xfrm>
            <a:off x="1060560" y="4511520"/>
            <a:ext cx="156024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3" descr="C:\Users\адиля\Desktop\конф стенд\конф 14\fon-mat.jpg"/>
          <p:cNvPicPr/>
          <p:nvPr/>
        </p:nvPicPr>
        <p:blipFill>
          <a:blip r:embed="rId1"/>
          <a:stretch/>
        </p:blipFill>
        <p:spPr>
          <a:xfrm>
            <a:off x="-3240" y="0"/>
            <a:ext cx="9147240" cy="68565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228960" y="-777600"/>
            <a:ext cx="231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Прямоугольник 1" descr=""/>
          <p:cNvPicPr/>
          <p:nvPr/>
        </p:nvPicPr>
        <p:blipFill>
          <a:blip r:embed="rId2"/>
          <a:stretch/>
        </p:blipFill>
        <p:spPr>
          <a:xfrm>
            <a:off x="2054160" y="579600"/>
            <a:ext cx="5614920" cy="107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1000080" y="1857240"/>
          <a:ext cx="7056360" cy="4276800"/>
        </p:xfrm>
        <a:graphic>
          <a:graphicData uri="http://schemas.openxmlformats.org/drawingml/2006/table">
            <a:tbl>
              <a:tblPr/>
              <a:tblGrid>
                <a:gridCol w="601560"/>
                <a:gridCol w="3867120"/>
                <a:gridCol w="2587680"/>
              </a:tblGrid>
              <a:tr h="316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амилия И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лж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рипова Гульна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йратов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зид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рипова Диляфруз Марселев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инистр спор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алимов Рафил Гамисови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инистр тру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рипов Риг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илеви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инистр безопас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рданова Язиля Ильнуров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сс-секрета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фарова Гузелия Айзатов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сс-секрета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липова Гульнара Нурсаяфов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инистр  культу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ариева Ильзира Абударов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инистр зн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алиева Лейля Римов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атый 1,3 клас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брагимова Гульзада Рамилев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жатый 2,4клас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римова Илюза Ильясов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жатый 5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Rectangle 56"/>
          <p:cNvSpPr/>
          <p:nvPr/>
        </p:nvSpPr>
        <p:spPr>
          <a:xfrm>
            <a:off x="2270160" y="15451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3" descr="C:\Users\адиля\Desktop\конф стенд\конф 14\fon-mat.jpg"/>
          <p:cNvPicPr/>
          <p:nvPr/>
        </p:nvPicPr>
        <p:blipFill>
          <a:blip r:embed="rId1"/>
          <a:stretch/>
        </p:blipFill>
        <p:spPr>
          <a:xfrm>
            <a:off x="-3240" y="1440"/>
            <a:ext cx="9147240" cy="6856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1640" y="648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Ученический комите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1280" y="981000"/>
            <a:ext cx="8137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Arial"/>
              </a:rPr>
              <a:t>проводит совещания членов советов классов, ответственный за дежурство разъясняет цели, задачи, обязанности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Arial"/>
              </a:rPr>
              <a:t>разрабатывает систему контроля посещения, успеваемости учащихся по школе и классам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Arial"/>
              </a:rPr>
              <a:t>проводит рейды с целью проверки учебных принадлежностей, подготовленности к урокам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Arial"/>
              </a:rPr>
              <a:t>предоставляет отчет о работе председателю Совета старшеклассников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3T18:23:50Z</dcterms:created>
  <dc:creator>адиля</dc:creator>
  <dc:description/>
  <dc:language>en-US</dc:language>
  <cp:lastModifiedBy>Юнусова</cp:lastModifiedBy>
  <cp:lastPrinted>2015-11-20T10:02:35Z</cp:lastPrinted>
  <dcterms:modified xsi:type="dcterms:W3CDTF">2015-11-20T10:03:32Z</dcterms:modified>
  <cp:revision>20</cp:revision>
  <dc:subject/>
  <dc:title>Слайд 1</dc:title>
</cp:coreProperties>
</file>